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87F-FCEA-45A4-954E-D2807BF8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0880" y="384012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3CF-5EF2-4286-8C39-D4265DA0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0096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E79-7CFA-4EF0-BE46-3FCAEAE0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964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088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964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D8E-C306-4166-A6AE-8FE8D2DC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9654-55B0-49B0-9822-362F49EF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E8AF-9AD7-4302-AA7B-4DAD54F7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4166-02C0-44CC-B757-B0D67D5F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981A-91F9-427F-83AB-9E6B9D20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F2BD-F298-4EB7-BB6B-E5E85275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40880" y="-2354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E8F8-235A-4473-BF98-29B908A5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9B66-46EB-4FE3-8701-28A4AC9B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4DF-EFE9-4C02-B7FA-68A40531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0096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BC74-5760-4EB1-AFBA-4B4653AB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9D62-3158-4FB0-A0F1-D275FDC5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40880" y="384012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1CA5-7464-4F87-9403-5A7A2FA1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0096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D44C-EA54-4A6D-84A5-5862ABC7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1964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876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4088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1964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9876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CD41-31C8-4361-A3B3-85EE1C1F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39F-12F6-42C2-A9F3-A57BC0E0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A38-12A2-4BD7-95B6-0D12C3A7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F47-BEF4-4092-AB5B-3CA1EDE9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0880" y="-2354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8EB-798B-4380-8AD7-E08CA8BE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A65-BAB0-439E-BED2-6E7AED13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0096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209-7B39-4D09-8C0D-C9BFC577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15A-F1D1-41D2-8E4F-4850336F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ad2c31"/>
              </a:buClr>
              <a:buSzPct val="7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ad2c31"/>
              </a:buClr>
              <a:buSzPct val="7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ad2c31"/>
              </a:buClr>
              <a:buSzPct val="65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ad2c31"/>
              </a:buClr>
              <a:buSzPct val="7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ad2c31"/>
              </a:buClr>
              <a:buSzPct val="6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1657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Nov 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1657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ABAD-FB84-49D4-B494-4923A400C6B5}" type="slidenum">
              <a:rPr b="0" lang="sv-S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92520" y="61657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94520" y="6237360"/>
            <a:ext cx="1517760" cy="36036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741240" y="981000"/>
            <a:ext cx="8150400" cy="136440"/>
            <a:chOff x="741240" y="981000"/>
            <a:chExt cx="8150400" cy="136440"/>
          </a:xfrm>
        </p:grpSpPr>
        <p:sp>
          <p:nvSpPr>
            <p:cNvPr id="7" name=""/>
            <p:cNvSpPr/>
            <p:nvPr/>
          </p:nvSpPr>
          <p:spPr>
            <a:xfrm>
              <a:off x="1012680" y="1044720"/>
              <a:ext cx="7878960" cy="72720"/>
            </a:xfrm>
            <a:prstGeom prst="flowChartProcess">
              <a:avLst/>
            </a:prstGeom>
            <a:gradFill rotWithShape="0">
              <a:gsLst>
                <a:gs pos="0">
                  <a:srgbClr val="a4aed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741240" y="980640"/>
              <a:ext cx="7954920" cy="6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d2c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2724120" y="1371600"/>
            <a:ext cx="396252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2083" y="-29631"/>
                </a:moveTo>
                <a:arcTo wR="32000" hR="32000" stAng="-4068917" swAng="8137834"/>
                <a:moveTo>
                  <a:pt x="12083" y="29631"/>
                </a:moveTo>
                <a:arcTo wR="32000" hR="32000" stAng="4068917" swAng="41"/>
                <a:lnTo>
                  <a:pt x="12083" y="29632"/>
                </a:lnTo>
                <a:lnTo>
                  <a:pt x="12083" y="-29632"/>
                </a:lnTo>
                <a:lnTo>
                  <a:pt x="12083" y="-29631"/>
                </a:lnTo>
                <a:arcTo wR="32000" hR="32000" stAng="-4068958" swAng="41"/>
                <a:close/>
              </a:path>
            </a:pathLst>
          </a:custGeom>
          <a:solidFill>
            <a:srgbClr val="a4a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490920" y="304920"/>
            <a:ext cx="43750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994" y="-25753"/>
                </a:moveTo>
                <a:arcTo wR="32000" hR="32000" stAng="-3215387" swAng="6430773"/>
                <a:moveTo>
                  <a:pt x="18994" y="25753"/>
                </a:moveTo>
                <a:arcTo wR="32000" hR="32000" stAng="3215387" swAng="64"/>
                <a:lnTo>
                  <a:pt x="18994" y="25754"/>
                </a:lnTo>
                <a:lnTo>
                  <a:pt x="18994" y="-25754"/>
                </a:lnTo>
                <a:lnTo>
                  <a:pt x="18994" y="-25754"/>
                </a:lnTo>
                <a:arcTo wR="32000" hR="32000" stAng="-3215450" swAng="64"/>
                <a:close/>
              </a:path>
            </a:pathLst>
          </a:custGeom>
          <a:solidFill>
            <a:srgbClr val="ad0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80640"/>
            <a:ext cx="7842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DB25-8E5D-404B-B42A-0C895C82C105}" type="slidenum">
              <a:rPr b="0" lang="sv-S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18560" y="333360"/>
            <a:ext cx="151596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8880" y="-23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cc0000"/>
                </a:solidFill>
                <a:latin typeface="Arial"/>
              </a:rPr>
              <a:t>Bopriskindikatorn 2003 -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44520" y="1268280"/>
          <a:ext cx="936144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268280"/>
                    <a:ext cx="936144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93492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2416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39800" y="371628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49600" y="3716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596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5264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7760" y="13413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8880" y="371628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0500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984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9960" y="3716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16520" y="3716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3396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6104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24520" y="3716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8880" y="-23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ndel av de som har rörlig ränta som tror de kommer att binda räntorna inom tre mån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44520" y="1197000"/>
          <a:ext cx="91314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197000"/>
                    <a:ext cx="9131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13796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2416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8452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560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3032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8268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68040" y="126684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052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1940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048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0852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8816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0704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00720" y="5877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9616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88520" y="-235440"/>
            <a:ext cx="92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Genomsnittet av hushållens tro om reporäntans nivå om ett å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44520" y="1268280"/>
          <a:ext cx="91314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268280"/>
                    <a:ext cx="9131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2416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203040" y="13413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4:30:53Z</dcterms:created>
  <dc:creator>Martha Arango</dc:creator>
  <dc:description/>
  <dc:language>en-US</dc:language>
  <cp:lastModifiedBy>Per Hörnsten</cp:lastModifiedBy>
  <dcterms:modified xsi:type="dcterms:W3CDTF">2009-11-09T10:37:10Z</dcterms:modified>
  <cp:revision>273</cp:revision>
  <dc:subject/>
  <dc:title>Bild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13506345</vt:r8>
  </property>
  <property fmtid="{D5CDD505-2E9C-101B-9397-08002B2CF9AE}" pid="3" name="_AuthorEmail">
    <vt:lpwstr>per.hornsten@demoskop.se</vt:lpwstr>
  </property>
  <property fmtid="{D5CDD505-2E9C-101B-9397-08002B2CF9AE}" pid="4" name="_AuthorEmailDisplayName">
    <vt:lpwstr>Per Hörnsten</vt:lpwstr>
  </property>
  <property fmtid="{D5CDD505-2E9C-101B-9397-08002B2CF9AE}" pid="5" name="_EmailSubject">
    <vt:lpwstr>Till hemsidan</vt:lpwstr>
  </property>
  <property fmtid="{D5CDD505-2E9C-101B-9397-08002B2CF9AE}" pid="6" name="_NewReviewCycle">
    <vt:lpwstr/>
  </property>
</Properties>
</file>