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907588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4B15-DD69-4374-A7EB-D1E085884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792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0880" y="3840120"/>
            <a:ext cx="792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C368-557E-4432-A799-E3EBB5F9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00960" y="169056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0880" y="384012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00960" y="384012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D431-9E2C-4970-8B7B-8660567DD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255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19640" y="1690560"/>
            <a:ext cx="255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8760" y="1690560"/>
            <a:ext cx="255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0880" y="3840120"/>
            <a:ext cx="255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19640" y="3840120"/>
            <a:ext cx="255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8760" y="3840120"/>
            <a:ext cx="255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121B-A718-4723-B330-6B9A104F9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9CF7-36AC-4854-84DB-7C42097E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40880" y="169056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B69C-DE9C-403A-B00F-47CC8833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0A27-1448-4DFC-9B12-1BE7E3AC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386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00960" y="1690560"/>
            <a:ext cx="386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18AB-B9AE-49D4-A397-4CF0FC68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A19E-153B-478F-8299-6854DEA6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40880" y="-235440"/>
            <a:ext cx="7923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8E1D-0703-45F7-B4D1-728FE5F6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0960" y="1690560"/>
            <a:ext cx="386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0880" y="384012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E0CC-3D3C-48E1-A29F-668A88E1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0880" y="169056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6D0D-E0D9-4111-A5A8-689DB1A2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386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00960" y="169056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00960" y="384012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43E5-1BBD-4B92-ADA1-45785C55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0960" y="169056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0880" y="3840120"/>
            <a:ext cx="792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5C145-54B8-434A-ABA6-6C3313B3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792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40880" y="3840120"/>
            <a:ext cx="792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7A90-E148-46D3-BFE3-30241FC2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00960" y="169056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40880" y="384012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00960" y="384012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1EA6-020F-4316-8D2C-74FDFCBBE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255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19640" y="1690560"/>
            <a:ext cx="255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8760" y="1690560"/>
            <a:ext cx="255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40880" y="3840120"/>
            <a:ext cx="255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19640" y="3840120"/>
            <a:ext cx="255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98760" y="3840120"/>
            <a:ext cx="255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11AE-2B1A-43ED-BDF0-2E011E032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D97A-C71A-4FDC-BFFE-94C34B1E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386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00960" y="1690560"/>
            <a:ext cx="386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2AEE-9209-44FA-A967-30EF63E7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5FB1-78E0-4FEB-AC96-88AE98E8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0880" y="-235440"/>
            <a:ext cx="7923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BEF0-AC25-4310-A0B4-3B24A20B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0960" y="1690560"/>
            <a:ext cx="386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0880" y="384012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45DA-A441-4A85-92C9-2F003380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386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0960" y="169056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00960" y="384012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0EA3-BA99-4D62-91CA-FF148E3A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169056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00960" y="1690560"/>
            <a:ext cx="3866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0880" y="3840120"/>
            <a:ext cx="792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51A5-9D61-4329-8B0D-B57AA490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-235440"/>
            <a:ext cx="792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169056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ad2c31"/>
              </a:buClr>
              <a:buSzPct val="70000"/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ad2c31"/>
              </a:buClr>
              <a:buSzPct val="70000"/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ad2c31"/>
              </a:buClr>
              <a:buSzPct val="65000"/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ad2c31"/>
              </a:buClr>
              <a:buSzPct val="70000"/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ad2c31"/>
              </a:buClr>
              <a:buSzPct val="60000"/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1657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Nov 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1657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C678-1288-4B44-BA6D-3A63A416DB86}" type="slidenum">
              <a:rPr b="0" lang="sv-S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92520" y="61657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94520" y="6237360"/>
            <a:ext cx="1517760" cy="36036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741240" y="981000"/>
            <a:ext cx="8150400" cy="136440"/>
            <a:chOff x="741240" y="981000"/>
            <a:chExt cx="8150400" cy="136440"/>
          </a:xfrm>
        </p:grpSpPr>
        <p:sp>
          <p:nvSpPr>
            <p:cNvPr id="7" name=""/>
            <p:cNvSpPr/>
            <p:nvPr/>
          </p:nvSpPr>
          <p:spPr>
            <a:xfrm>
              <a:off x="1012680" y="1044720"/>
              <a:ext cx="7878960" cy="72720"/>
            </a:xfrm>
            <a:prstGeom prst="flowChartProcess">
              <a:avLst/>
            </a:prstGeom>
            <a:gradFill rotWithShape="0">
              <a:gsLst>
                <a:gs pos="0">
                  <a:srgbClr val="a4aed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>
              <a:off x="741240" y="980640"/>
              <a:ext cx="7954920" cy="69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d2c3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2724120" y="1371600"/>
            <a:ext cx="396252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2083" y="-29631"/>
                </a:moveTo>
                <a:arcTo wR="32000" hR="32000" stAng="-4068917" swAng="8137834"/>
                <a:moveTo>
                  <a:pt x="12083" y="29631"/>
                </a:moveTo>
                <a:arcTo wR="32000" hR="32000" stAng="4068917" swAng="41"/>
                <a:lnTo>
                  <a:pt x="12083" y="29632"/>
                </a:lnTo>
                <a:lnTo>
                  <a:pt x="12083" y="-29632"/>
                </a:lnTo>
                <a:lnTo>
                  <a:pt x="12083" y="-29631"/>
                </a:lnTo>
                <a:arcTo wR="32000" hR="32000" stAng="-4068958" swAng="41"/>
                <a:close/>
              </a:path>
            </a:pathLst>
          </a:custGeom>
          <a:solidFill>
            <a:srgbClr val="a4a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3490920" y="304920"/>
            <a:ext cx="4375080" cy="40384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994" y="-25753"/>
                </a:moveTo>
                <a:arcTo wR="32000" hR="32000" stAng="-3215387" swAng="6430773"/>
                <a:moveTo>
                  <a:pt x="18994" y="25753"/>
                </a:moveTo>
                <a:arcTo wR="32000" hR="32000" stAng="3215387" swAng="64"/>
                <a:lnTo>
                  <a:pt x="18994" y="25754"/>
                </a:lnTo>
                <a:lnTo>
                  <a:pt x="18994" y="-25754"/>
                </a:lnTo>
                <a:lnTo>
                  <a:pt x="18994" y="-25754"/>
                </a:lnTo>
                <a:arcTo wR="32000" hR="32000" stAng="-3215450" swAng="64"/>
                <a:close/>
              </a:path>
            </a:pathLst>
          </a:custGeom>
          <a:solidFill>
            <a:srgbClr val="ad00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980640"/>
            <a:ext cx="7842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628C-08FF-4571-A7C5-2005CCA02BDF}" type="slidenum">
              <a:rPr b="0" lang="sv-S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918560" y="333360"/>
            <a:ext cx="151596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88880" y="-23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cc0000"/>
                </a:solidFill>
                <a:latin typeface="Arial"/>
              </a:rPr>
              <a:t>Bopriskindikatorn 2003 -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44520" y="1268280"/>
          <a:ext cx="9361440" cy="508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520" y="1268280"/>
                    <a:ext cx="9361440" cy="50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934920" y="59720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24160" y="566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39800" y="371628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49600" y="3716280"/>
            <a:ext cx="0" cy="23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85960" y="59720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52640" y="59720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7760" y="134136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28880" y="371628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05000" y="59720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9840" y="59720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09960" y="3716280"/>
            <a:ext cx="0" cy="23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16520" y="3716280"/>
            <a:ext cx="0" cy="23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33960" y="59720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61040" y="59720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24520" y="3716280"/>
            <a:ext cx="0" cy="23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88880" y="-23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ndel av de som har rörlig ränta som tror de kommer att binda räntorna inom tre mån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44520" y="1197000"/>
          <a:ext cx="91314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520" y="1197000"/>
                    <a:ext cx="9131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1137960" y="59007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24160" y="566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84520" y="54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65600" y="54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30320" y="59007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82680" y="59007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168040" y="126684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0520" y="54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019400" y="59007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00480" y="59007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08520" y="54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88160" y="54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07040" y="59007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200720" y="58770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96160" y="54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88520" y="-235440"/>
            <a:ext cx="928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Genomsnittet av hushållens tro om reporäntans nivå om ett å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44520" y="1268280"/>
          <a:ext cx="91314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520" y="1268280"/>
                    <a:ext cx="9131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3224160" y="566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203040" y="134136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0T14:30:53Z</dcterms:created>
  <dc:creator>Martha Arango</dc:creator>
  <dc:description/>
  <dc:language>en-US</dc:language>
  <cp:lastModifiedBy>Per Hörnsten</cp:lastModifiedBy>
  <dcterms:modified xsi:type="dcterms:W3CDTF">2009-11-09T10:37:10Z</dcterms:modified>
  <cp:revision>273</cp:revision>
  <dc:subject/>
  <dc:title>Bild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13506345</vt:r8>
  </property>
  <property fmtid="{D5CDD505-2E9C-101B-9397-08002B2CF9AE}" pid="3" name="_AuthorEmail">
    <vt:lpwstr>per.hornsten@demoskop.se</vt:lpwstr>
  </property>
  <property fmtid="{D5CDD505-2E9C-101B-9397-08002B2CF9AE}" pid="4" name="_AuthorEmailDisplayName">
    <vt:lpwstr>Per Hörnsten</vt:lpwstr>
  </property>
  <property fmtid="{D5CDD505-2E9C-101B-9397-08002B2CF9AE}" pid="5" name="_EmailSubject">
    <vt:lpwstr>Till hemsidan</vt:lpwstr>
  </property>
  <property fmtid="{D5CDD505-2E9C-101B-9397-08002B2CF9AE}" pid="6" name="_NewReviewCycle">
    <vt:lpwstr/>
  </property>
</Properties>
</file>