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3525-B3AF-4DF2-A545-58B311AF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0880" y="384012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FD2-3292-4D68-85EE-117109C8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0096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6BE-027F-48EF-AE03-64D6C0B2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964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088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964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D97C-7F25-4A21-8145-8AB5CD90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3CF7-DBBC-464C-B48F-0AC216FD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16E3-C2C5-4275-961F-5C2E1AC0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AEFE-BD5A-437C-9F2E-3817584E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D4EF-2B66-4DFB-B9B0-327E34FA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742C-21C6-42CD-96D1-FDE69A19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40880" y="-2354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92A1-C4DF-4E90-A362-89714DAB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9AA2-F4CC-4D9F-BC0B-778D2760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221-8016-43F6-95BD-AE8FEB5E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0096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7846-B2B6-419C-AC87-67EC9FB7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5131-D7A5-4D5C-A88B-DB764EE9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40880" y="384012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D920-282B-41FE-AA5C-CCB63046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0096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4B6F-5340-4917-A302-99A29885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1964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876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4088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1964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9876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6595-367C-4B0A-B1B5-6F61B647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273-5CC6-46D1-A5AD-C102ECA1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5CC-1BB7-4200-AD1F-3BA4965E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78C-074D-4A9F-9E93-32A41E4F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0880" y="-2354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BEF5-53CA-40DF-A684-38EBC35A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9F0-971A-44E9-91CA-A437500F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0096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17A7-DCB2-4446-B927-5B09153C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4A6-A06D-403E-89D1-AA3E89C9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ad2c31"/>
              </a:buClr>
              <a:buSzPct val="7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ad2c31"/>
              </a:buClr>
              <a:buSzPct val="7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ad2c31"/>
              </a:buClr>
              <a:buSzPct val="65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ad2c31"/>
              </a:buClr>
              <a:buSzPct val="7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ad2c31"/>
              </a:buClr>
              <a:buSzPct val="6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1657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aj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1657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EA2D-493A-4E0B-80A3-E7A72AC6EEE5}" type="slidenum">
              <a:rPr b="0" lang="sv-S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92520" y="61657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94520" y="6237360"/>
            <a:ext cx="1517760" cy="36036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741240" y="981000"/>
            <a:ext cx="8150400" cy="136440"/>
            <a:chOff x="741240" y="981000"/>
            <a:chExt cx="8150400" cy="136440"/>
          </a:xfrm>
        </p:grpSpPr>
        <p:sp>
          <p:nvSpPr>
            <p:cNvPr id="7" name=""/>
            <p:cNvSpPr/>
            <p:nvPr/>
          </p:nvSpPr>
          <p:spPr>
            <a:xfrm>
              <a:off x="1012680" y="1044720"/>
              <a:ext cx="7878960" cy="72720"/>
            </a:xfrm>
            <a:prstGeom prst="flowChartProcess">
              <a:avLst/>
            </a:prstGeom>
            <a:gradFill rotWithShape="0">
              <a:gsLst>
                <a:gs pos="0">
                  <a:srgbClr val="a4aed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741240" y="980640"/>
              <a:ext cx="7954920" cy="69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d2c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2724120" y="1371600"/>
            <a:ext cx="396252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2083" y="-29631"/>
                </a:moveTo>
                <a:arcTo wR="32000" hR="32000" stAng="-4068917" swAng="8137834"/>
                <a:moveTo>
                  <a:pt x="12083" y="29631"/>
                </a:moveTo>
                <a:arcTo wR="32000" hR="32000" stAng="4068917" swAng="41"/>
                <a:lnTo>
                  <a:pt x="12083" y="29632"/>
                </a:lnTo>
                <a:lnTo>
                  <a:pt x="12083" y="-29632"/>
                </a:lnTo>
                <a:lnTo>
                  <a:pt x="12083" y="-29631"/>
                </a:lnTo>
                <a:arcTo wR="32000" hR="32000" stAng="-4068958" swAng="41"/>
                <a:close/>
              </a:path>
            </a:pathLst>
          </a:custGeom>
          <a:solidFill>
            <a:srgbClr val="a4a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490920" y="304920"/>
            <a:ext cx="43750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994" y="-25753"/>
                </a:moveTo>
                <a:arcTo wR="32000" hR="32000" stAng="-3215387" swAng="6430773"/>
                <a:moveTo>
                  <a:pt x="18994" y="25753"/>
                </a:moveTo>
                <a:arcTo wR="32000" hR="32000" stAng="3215387" swAng="64"/>
                <a:lnTo>
                  <a:pt x="18994" y="25754"/>
                </a:lnTo>
                <a:lnTo>
                  <a:pt x="18994" y="-25754"/>
                </a:lnTo>
                <a:lnTo>
                  <a:pt x="18994" y="-25754"/>
                </a:lnTo>
                <a:arcTo wR="32000" hR="32000" stAng="-3215450" swAng="64"/>
                <a:close/>
              </a:path>
            </a:pathLst>
          </a:custGeom>
          <a:solidFill>
            <a:srgbClr val="ad0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80640"/>
            <a:ext cx="7842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A3B6-2FAC-4E55-BA77-5A71F0A59F8F}" type="slidenum">
              <a:rPr b="0" lang="sv-S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18560" y="333360"/>
            <a:ext cx="151596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8880" y="-571680"/>
            <a:ext cx="91440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cc0000"/>
                </a:solidFill>
                <a:latin typeface="Arial"/>
              </a:rPr>
              <a:t>Bopriskindikatorn 2003 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44520" y="1268280"/>
          <a:ext cx="936144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268280"/>
                    <a:ext cx="936144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93492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2416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96880" y="371628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6680" y="3716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596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324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7760" y="13413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40160" y="371628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4148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0692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48160" y="3716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84880" y="3716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3068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8000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21600" y="3716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6800" y="476280"/>
            <a:ext cx="703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Skillnaden mellan dem som tror att bostadspriserna kommer att öka det närmaste år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jämfört med dem som tror de kommer att min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0232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29600" y="3716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8880" y="-23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ndel av de som har rörlig ränta som tror de kommer att binda räntorna inom tre mån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4520" y="1197000"/>
          <a:ext cx="91314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197000"/>
                    <a:ext cx="9131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99360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2416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1288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2088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3032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6704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68040" y="126684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616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340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8448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9252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2924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4668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54680" y="5877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6596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9640" y="5877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7396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8520" y="-235440"/>
            <a:ext cx="92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Genomsnittet av hushållens tro om reporäntans nivå om ett å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44520" y="1268280"/>
          <a:ext cx="91314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268280"/>
                    <a:ext cx="9131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22416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203040" y="13413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4:30:53Z</dcterms:created>
  <dc:creator>Martha Arango</dc:creator>
  <dc:description/>
  <dc:language>en-US</dc:language>
  <cp:lastModifiedBy>Per Nilsson</cp:lastModifiedBy>
  <dcterms:modified xsi:type="dcterms:W3CDTF">2010-05-17T07:12:44Z</dcterms:modified>
  <cp:revision>275</cp:revision>
  <dc:subject/>
  <dc:title>Bild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5852516</vt:r8>
  </property>
  <property fmtid="{D5CDD505-2E9C-101B-9397-08002B2CF9AE}" pid="3" name="_AuthorEmail">
    <vt:lpwstr>per.hornsten@demoskop.se</vt:lpwstr>
  </property>
  <property fmtid="{D5CDD505-2E9C-101B-9397-08002B2CF9AE}" pid="4" name="_AuthorEmailDisplayName">
    <vt:lpwstr>Per Hörnsten</vt:lpwstr>
  </property>
  <property fmtid="{D5CDD505-2E9C-101B-9397-08002B2CF9AE}" pid="5" name="_EmailSubject">
    <vt:lpwstr>Till hemsid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