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7CE-0192-4D1E-B53E-B52282EE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A20-FE41-452C-B1E4-7003A7EC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469-E0F6-443A-B283-D0A8E58E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964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088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964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503-A70B-41B8-AD70-C7D003B0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4CC9-5CE4-48D4-8162-30E8DF46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D67F-691B-4F5E-8B97-D1ED427E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CCA6-7911-4CAB-B242-CC2FAC5E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6CBC-AA36-4F3A-910C-65017BCF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56D0-60C1-4EED-8DF8-20A37B2D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40880" y="-2354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3F7A-E77A-4C3C-91C6-0AB789FB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96C0-BF77-41CE-ACFD-1858B53A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093-A423-43B5-A6EC-54B660BD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85DF-835E-4264-9549-EF108AC2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D331-3808-407F-9915-173E9214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E8B4-6ADF-4A76-A224-E6AFF5BC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F4AB-30E0-47DF-A54A-CE2D79D5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1964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876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088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1964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876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09AE-FA79-4301-B4D8-75AFD1B4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12B-5009-4679-B7E4-D94BAF71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40C-C5EF-4CEC-9AAD-3E166442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1FB-2214-48BD-BF25-482810F9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0880" y="-2354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173-E86C-428D-AD9C-B5F00FD8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BF0-19A1-422C-9B4D-8A25E9B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9A1-3720-4750-9BB9-48A03326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847-B073-4F42-9966-E1638EB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ad2c31"/>
              </a:buClr>
              <a:buSzPct val="7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ad2c31"/>
              </a:buClr>
              <a:buSzPct val="7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ad2c31"/>
              </a:buClr>
              <a:buSzPct val="65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ad2c31"/>
              </a:buClr>
              <a:buSzPct val="7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ad2c31"/>
              </a:buClr>
              <a:buSzPct val="6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1657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Maj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1657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39D8-BB09-4D9F-906B-BCB5ABF15541}" type="slidenum">
              <a:rPr b="0" lang="sv-S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2520" y="61657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94520" y="6237360"/>
            <a:ext cx="1517760" cy="36036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741240" y="981000"/>
            <a:ext cx="8150400" cy="136440"/>
            <a:chOff x="741240" y="981000"/>
            <a:chExt cx="8150400" cy="136440"/>
          </a:xfrm>
        </p:grpSpPr>
        <p:sp>
          <p:nvSpPr>
            <p:cNvPr id="7" name=""/>
            <p:cNvSpPr/>
            <p:nvPr/>
          </p:nvSpPr>
          <p:spPr>
            <a:xfrm>
              <a:off x="1012680" y="1044720"/>
              <a:ext cx="7878960" cy="72720"/>
            </a:xfrm>
            <a:prstGeom prst="flowChartProcess">
              <a:avLst/>
            </a:prstGeom>
            <a:gradFill rotWithShape="0">
              <a:gsLst>
                <a:gs pos="0">
                  <a:srgbClr val="a4aed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741240" y="980640"/>
              <a:ext cx="795492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d2c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724120" y="1371600"/>
            <a:ext cx="396252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solidFill>
            <a:srgbClr val="a4a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490920" y="304920"/>
            <a:ext cx="43750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solidFill>
            <a:srgbClr val="ad0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80640"/>
            <a:ext cx="7842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22BE-4DE4-48F8-B0D3-17C8A1B5E57C}" type="slidenum">
              <a:rPr b="0" lang="sv-S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18560" y="333360"/>
            <a:ext cx="15159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8880" y="-571680"/>
            <a:ext cx="91440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cc0000"/>
                </a:solidFill>
                <a:latin typeface="Arial"/>
              </a:rPr>
              <a:t>Bopriskindikatorn 2003 -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44520" y="1268280"/>
          <a:ext cx="936144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68280"/>
                    <a:ext cx="936144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3492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2416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96880" y="371628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668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596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324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7760" y="13413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40160" y="371628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4148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0692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4816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8488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068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8000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160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6800" y="476280"/>
            <a:ext cx="703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Skillnaden mellan dem som tror att bostadspriserna kommer att öka det närmaste år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jämfört med dem som tror de kommer att min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0232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2960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8880" y="-23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del av de som har rörlig ränta som tror de kommer att binda räntorna inom tre mån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4520" y="1197000"/>
          <a:ext cx="91314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197000"/>
                    <a:ext cx="9131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99360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416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288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088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3032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6704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68040" y="12668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616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340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8448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9252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2924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4668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54680" y="5877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6596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9640" y="5877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7396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88520" y="-235440"/>
            <a:ext cx="92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enomsnittet av hushållens tro om reporäntans nivå om ett å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44520" y="1268280"/>
          <a:ext cx="91314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68280"/>
                    <a:ext cx="9131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22416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203040" y="13413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4:30:53Z</dcterms:created>
  <dc:creator>Martha Arango</dc:creator>
  <dc:description/>
  <dc:language>en-US</dc:language>
  <cp:lastModifiedBy>Per Nilsson</cp:lastModifiedBy>
  <dcterms:modified xsi:type="dcterms:W3CDTF">2010-05-17T07:12:44Z</dcterms:modified>
  <cp:revision>275</cp:revision>
  <dc:subject/>
  <dc:title>Bil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5852516</vt:r8>
  </property>
  <property fmtid="{D5CDD505-2E9C-101B-9397-08002B2CF9AE}" pid="3" name="_AuthorEmail">
    <vt:lpwstr>per.hornsten@demoskop.se</vt:lpwstr>
  </property>
  <property fmtid="{D5CDD505-2E9C-101B-9397-08002B2CF9AE}" pid="4" name="_AuthorEmailDisplayName">
    <vt:lpwstr>Per Hörnsten</vt:lpwstr>
  </property>
  <property fmtid="{D5CDD505-2E9C-101B-9397-08002B2CF9AE}" pid="5" name="_EmailSubject">
    <vt:lpwstr>Till hemsid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